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D727-8F21-4076-AAE5-7DDFF96F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EEED-F5E6-46C5-832F-ABA57C23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5C79-D55A-47BA-8B24-FA4A3987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7DDD-7629-44F6-B2D8-1ADA4AF7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B5C4-DBD9-428C-B821-7A8A36A3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947D-8957-4BC8-9EF9-372661E1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54A3-FD2E-4D18-8161-1C299E95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B449-31B1-4871-A8A8-52C6D4B2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BE4A-7EAC-4441-8648-6C1025CA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BF84-BC78-4CC4-BCAF-E54D4AA3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68D1-5A73-400C-93E7-AEA62449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8348-2E38-4C45-8C5D-555CDB90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6056-AE4F-43A3-AD63-134E79E2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BC6A-F8AF-426B-9432-6119B4FC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57D0-C1E2-4BAB-84A2-360AD9BA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730B-41D5-4DDB-A733-25BAC9BC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7D5D-7AD1-4842-9E47-089668EC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31E4-E54E-486E-B233-E1201B24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AFE48-513B-4AEB-8A82-17F44D3F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46D0-15F4-4757-8470-D56951A8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D9D7-D409-4CA2-A337-A3D0EDC7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A01C-32A0-485B-BEA4-6EE2C158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A23D-A649-4E3E-AD16-52F93732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75F2-BF50-44D6-A8DC-9D35688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6772-867B-430C-A457-FA0A06C12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CB42-6314-402B-9BC6-9B0091F035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ine cipher is another version of a substitution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tter is assigned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umbers are selected (a, b) between 0 and 25 such that the gcd(a,26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 and c represent letters (p,c are numbers between 0 and 26) where p is a plaintext letter and c is a ciphertext letter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13440" y="4905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ap + b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24240" y="55515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 = 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c - b)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031B-42A5-4B44-9410-953EC31C7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key (a,b) = (7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d(7,2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6 = 15 (since 7 x 15 = 105 and 105 mod 26 =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3535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The general encipher/decipher equ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5960" y="40878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7p + 3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4552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hot” is 7 14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33040" y="506412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h)     = 7*7 + 3 mod 26 = 52 mod 26 = 0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33040" y="545940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o) = 7*14 + 3 mod 26 = 98 mod 26 = 23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84820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t)  = 7*19 + 3 mod 26 = 133 mod 26 = 6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5600" y="6246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0205-C5E5-413D-830F-2792B649A5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Cipher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5708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Affine option under the cipher menu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0160" y="2886120"/>
            <a:ext cx="7283520" cy="322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2766960"/>
            <a:ext cx="1164960" cy="784440"/>
          </a:xfrm>
          <a:prstGeom prst="wedgeRoundRectCallout">
            <a:avLst>
              <a:gd name="adj1" fmla="val -45097"/>
              <a:gd name="adj2" fmla="val 653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 the two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5040" y="2305080"/>
            <a:ext cx="1165320" cy="614160"/>
          </a:xfrm>
          <a:prstGeom prst="wedgeRoundRectCallout">
            <a:avLst>
              <a:gd name="adj1" fmla="val -45097"/>
              <a:gd name="adj2" fmla="val 972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set up you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0" y="2287440"/>
            <a:ext cx="1560600" cy="890640"/>
          </a:xfrm>
          <a:prstGeom prst="wedgeRoundRectCallout">
            <a:avLst>
              <a:gd name="adj1" fmla="val -55699"/>
              <a:gd name="adj2" fmla="val 9706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ror message if you fail to select the correct ke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06280" y="620388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5B33-FC62-4582-9917-68FE9FB7E5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0T08:51:09Z</dcterms:modified>
  <cp:revision>45</cp:revision>
  <dc:subject/>
  <dc:title>CAP Cryptographic Analysis Program</dc:title>
</cp:coreProperties>
</file>